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15.pct" ContentType="image/x-pict"/>
  <Override PartName="/ppt/media/image14.pct" ContentType="image/x-pict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1184-9519-4F5C-80D2-A93C415C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3AF-1A92-4F9F-9821-F0A169B1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18F-8E3F-460B-B09D-2102414E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2C4-1AC1-453B-BBCB-0D5752C7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9C68-2188-4427-AD29-0917A037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8D9-F0BF-4171-8809-F236E8E6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267-9AC4-4A6A-985C-1579B8EB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53B-159C-4970-8DBE-378FD28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85B7-FBC4-4484-A700-1B34F2DA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3706-FA0B-456C-A8EA-B7890ECE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1F09-2276-4B8C-B064-53B1EC9B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22DE-E597-4813-A825-5A88C28F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4254-D610-4DEF-ABF6-A85518050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568440"/>
            <a:ext cx="8839080" cy="5927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517680"/>
            <a:ext cx="8153280" cy="5769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566640"/>
            <a:ext cx="769608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82404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880" y="1868400"/>
            <a:ext cx="838224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622520"/>
            <a:ext cx="8153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3818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6360"/>
            <a:ext cx="83822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1203480"/>
            <a:ext cx="8305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35080"/>
            <a:ext cx="6705720" cy="60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363600"/>
            <a:ext cx="82296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7924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355680"/>
            <a:ext cx="8153280" cy="5587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22:47:27Z</dcterms:created>
  <dc:creator>George Lakoff</dc:creator>
  <dc:description/>
  <dc:language>en-US</dc:language>
  <cp:lastModifiedBy>George Lakoff</cp:lastModifiedBy>
  <dcterms:modified xsi:type="dcterms:W3CDTF">2003-04-27T01:05:06Z</dcterms:modified>
  <cp:revision>2</cp:revision>
  <dc:subject/>
  <dc:title>PowerPoint Presentation</dc:title>
</cp:coreProperties>
</file>