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34C-C5E8-41D8-AED4-184DA5AB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CA82-0BDB-425D-97D1-2024D051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DA5-5696-444B-98A4-2C746028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AF0D-F656-43C0-A893-2C1C54DC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B10-2F60-4056-9223-85A92E19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12D-7765-4945-9FEC-77AD09D1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038-2667-4789-8FB4-58C165AC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213-0773-423D-A0D1-0A7AB774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900-BB5D-468A-A2DE-D179CFBE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6C9-3343-4DCC-AFA7-AC74979F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AC4-6DCA-4DEF-BF53-DA64A93A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0E7-46A4-4255-9949-EE505E1D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ED20-87A2-4C2E-BE55-D8FA5E07A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568440"/>
            <a:ext cx="8839080" cy="5927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3055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517680"/>
            <a:ext cx="8153280" cy="5769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566640"/>
            <a:ext cx="76960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9246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82404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1868400"/>
            <a:ext cx="838224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622520"/>
            <a:ext cx="81532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381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0636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203480"/>
            <a:ext cx="83055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235080"/>
            <a:ext cx="67057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63600"/>
            <a:ext cx="82296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79246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355680"/>
            <a:ext cx="8153280" cy="5587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22:47:27Z</dcterms:created>
  <dc:creator>George Lakoff</dc:creator>
  <dc:description/>
  <dc:language>en-US</dc:language>
  <cp:lastModifiedBy>George Lakoff</cp:lastModifiedBy>
  <dcterms:modified xsi:type="dcterms:W3CDTF">2003-04-27T01:05:06Z</dcterms:modified>
  <cp:revision>2</cp:revision>
  <dc:subject/>
  <dc:title>PowerPoint Presentation</dc:title>
</cp:coreProperties>
</file>